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FBA2-0528-4848-9822-45289E0D1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9235-0BAD-4118-A44B-E09C9254076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0F9-8CB5-43D9-AC56-4AB4B10BB80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8BF-CAC5-4523-B3FB-CA4126E8FE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9C20-43CC-47DF-9CB2-D3BE8321937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4DD-4A94-4891-A397-8F349E5654D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026-F421-4BDE-8D5D-05241D7B1C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1178-56FF-416D-874C-F88C68D173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023-FAB7-4DD8-AB87-707A2EADC8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631-0D8D-4614-80F8-ADC67ADECCE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D13-93D9-459C-9218-D4E0D2D1313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97E3-7810-4BC9-8EE7-3638727AD1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549-9041-4223-AEE6-DA025037F4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7365-6A9E-42ED-8A2D-FB58CD401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BC2-63FA-472F-BD20-1A503BCD3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1C03-0EA2-413B-BB1A-102CC5EB8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3EA6-A25C-4AC1-8CA6-FD7A61E3C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D482-7B16-43A7-9C88-E535CECA0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3EDF-5524-4B2C-BB62-48FB21869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7028-C28F-4D97-BF4A-5704C3333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217A-51EF-406E-B008-6FD5838D8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60D3-719F-4D0D-93C3-6348368F2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785E-6CB3-48DE-A806-DBAC09AE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FBFE-53E5-486A-A4B7-42CB1AEA5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86A0-0458-4B69-9D32-79F4CDEEB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371F-12EE-4D12-AFF4-4D3C06F64CF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6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2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2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24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1" marL="201600" indent="-200520">
              <a:spcBef>
                <a:spcPts val="24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2" marL="468720" indent="-26568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3" marL="594720" indent="-124560">
              <a:spcBef>
                <a:spcPts val="240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4" marL="931680" indent="-335520">
              <a:spcBef>
                <a:spcPts val="240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5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  <a:p>
            <a:pPr lvl="6" marL="931680" indent="-335520">
              <a:spcBef>
                <a:spcPts val="24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E:\Cantemir 1\GM__2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–Predarea în societatea cunoaşterii</a:t>
            </a:r>
            <a:endParaRPr b="1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5480" y="52574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rea proiectelor elevilor</a:t>
            </a:r>
            <a:endParaRPr b="0" lang="en-US" sz="3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1" name="Picture 10" descr="intelEDU_wht_lrg [Converted]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FBA-8820-441F-AA77-41EA54EA78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3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5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Revizuirea produselor-model “ale elevilor”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1840" y="1785960"/>
            <a:ext cx="89121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 1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: Rev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ederea notiţelor personale, precum şi a observaţiilor colegilor referitoare la activitatea dvs.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notiţele personale din activităţile anterioare pentru a identifica zonele care pot fi îmbunătăţit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Revi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zui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duselor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propriul produs-mode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siguraţi-vă că aţi răspuns la toate întrebări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“ale elevilor” -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propria satisfacţie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470E-87B5-44D7-B0A8-BC55942B4C8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2800"/>
            </a:br>
            <a:br>
              <a:rPr sz="28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4</a:t>
            </a:r>
            <a:r>
              <a:rPr b="1" lang="ro-RO" sz="26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16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zuirea 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ului unităţii de învăţare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5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7640" y="2045880"/>
            <a:ext cx="8321400" cy="36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lan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l u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vs.de învăţa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inaliza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unităţ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ntru a vă monitoriza propriul progr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zu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produselor-model “ale elevilor”, asupra evaluării, asupra secţiuni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mersul didactic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plan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ntru a depista obiectivele care încă nu sunt atins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lis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 dvs. referitoare la O.R./C.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l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b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ectiv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şi operaţi modificări, după cum este necesa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</a:t>
            </a:r>
            <a:r>
              <a:rPr b="1" lang="ro-RO" sz="2400" spc="-1" strike="noStrike">
                <a:solidFill>
                  <a:srgbClr val="0c2e86"/>
                </a:solidFill>
                <a:latin typeface="Arial"/>
              </a:rPr>
              <a:t>5</a:t>
            </a:r>
            <a:r>
              <a:rPr b="1" lang="ro-RO" sz="2200" spc="-1" strike="noStrike">
                <a:solidFill>
                  <a:srgbClr val="0c2e86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Arial"/>
              </a:rPr>
              <a:t>(15 min.)</a:t>
            </a:r>
            <a:br>
              <a:rPr sz="22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1520" y="1371600"/>
            <a:ext cx="821700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recerea în revistă a modululu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ncte che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ar trebui integrată întregului proiect şi să vizeze toate scopurile evaluări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Evaluarea centrată pe elev ar trebui să se axeze, atât pe conţinuturi, cât şi pe abilităţile necesare în secolul XXI, şi să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define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scă conţinuturile şi deprinderile î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n contex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proiectulu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Tabelul de descriptori conţin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criteri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col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oana din stânga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)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-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are identifică obiectivel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şi 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descriptor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i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oloana din dreapta)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 -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are descriu nivelul de performanţ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rea evaluării sumative pentru stabilirea calităţii produselor şi a performanţe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La crearea sau modificarea unei evaluări aveţi în vedere următoarel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zolvaţi dvs. înşivă sarcina adresată elevil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Asiguraţi-vă că criteriile dvs.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onduc la atingerea obiectivelor ţintit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Limit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aţi numărul de obiectiv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Cereţi opinia atât colegilor, dar şi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           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Scrieţi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ii într-un limbaj accesibil elevil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60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itaţi termenii ambigu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51"/>
              </a:spcBef>
              <a:buClr>
                <a:srgbClr val="0c2e86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	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Luaţi în calcul ordinea criteriilor dvs</a:t>
            </a:r>
            <a:r>
              <a:rPr b="0" lang="ro-RO" sz="15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Activit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tea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5</a:t>
            </a:r>
            <a:br>
              <a:rPr sz="2400"/>
            </a:b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rea asupra propriei învăţări</a:t>
            </a:r>
            <a:r>
              <a:rPr b="0" lang="en-US" sz="2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1640" y="1863360"/>
            <a:ext cx="82677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Consemnarea experienţei de învăţare pe blog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, p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blog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-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personal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, asupr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activ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prinderilor şi abordărilor vizate de acest mod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modului în care elementul centra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l acestu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modul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-a folosit în planificarea şi crearea unităţii dvs.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m voi evalua învăţarea elev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m voi implica elevii în procesul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veţi în vedere modul în care cunoştinţele acumulate în cadrul acestui modul vă vor influenţa predarea şi implicit, învăţarea elevilo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referire l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lementele cheie ale învăţării, la eventuale întrebări şi aspecte ce mai trebuiesc lămurit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000"/>
            </a:br>
            <a:br>
              <a:rPr sz="900"/>
            </a:br>
            <a:r>
              <a:rPr b="1" lang="en-US" sz="9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Planificarea în avans a activităţii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Trecerea în revistă a propriilor produse-model “ale elevilor”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1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3080" y="1924200"/>
            <a:ext cx="8265960" cy="37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folde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roduse-model “ale elevilor”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 ambele tipuri de produse personale, pe baz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descriptorilo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la pagin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16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a întrebărilor de la pagina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5.18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c2e8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valuaţi-vă produsul-model creat, folosind instrumentul de evaluare creat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descriptor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cercuiţ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descriptor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ul c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reflec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el mai bine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Continu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aţi încercuirea în funcţie de nivelul de performanţă relevat de produ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acă aţi creat un ghid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de scor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,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folosiţi-l pentru scorarea </a:t>
            </a:r>
            <a:br>
              <a:rPr sz="1400"/>
            </a:b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rodusului-model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349"/>
              </a:spcBef>
              <a:buClr>
                <a:srgbClr val="0c2e8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Notaţi-vă orice modificare necesară, fie pentru produsul-model, fie pentru instrument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183-0379-4627-BE4D-7E38F0E68C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Modulul 6: Proiectarea pentru obţinerea succesului în învăţ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2400" y="1190520"/>
          <a:ext cx="7405920" cy="4300560"/>
        </p:xfrm>
        <a:graphic>
          <a:graphicData uri="http://schemas.openxmlformats.org/drawingml/2006/table">
            <a:tbl>
              <a:tblPr/>
              <a:tblGrid>
                <a:gridCol w="2368800"/>
                <a:gridCol w="5037120"/>
              </a:tblGrid>
              <a:tr h="43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ul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Sprijinirea elevului şi stimularea autonomiei în învăţ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trateg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nstru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diferen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a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nei evaluări pentru stimula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nomiei elevului în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material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or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port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lan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ui</a:t>
                      </a:r>
                      <a:r>
                        <a:rPr b="0" i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Unit</a:t>
                      </a:r>
                      <a:r>
                        <a:rPr b="0" i="1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ăţii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a includ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e de susţinere a învăţării pentru toţi elev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0c2e86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13" descr="intelEDU_4c_lrg [Converted]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D:\danav\logo SVC\2007-03-05LogoSIVECO15aniCertif_Ro.jpg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55C-76BE-428F-9FD6-558560E446C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6" descr="_x0014_white-slideCraig.png                                           000009C9_x0008_PROJECTS                       00000000: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6CE-F710-40F0-95AF-5213A449A59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5" descr="D:\danav\Poze\2007-06 (iun.)-17\IM000069.JPG"/>
          <p:cNvPicPr/>
          <p:nvPr/>
        </p:nvPicPr>
        <p:blipFill>
          <a:blip r:embed="rId1"/>
          <a:stretch/>
        </p:blipFill>
        <p:spPr>
          <a:xfrm>
            <a:off x="4741920" y="1654200"/>
            <a:ext cx="4437000" cy="2925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885960"/>
            <a:ext cx="42670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vilor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00" y="5370480"/>
            <a:ext cx="80996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03040"/>
            <a:ext cx="44416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  <a:ea typeface="Times New Roman"/>
              </a:rPr>
              <a:t>Unde ne află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edarea prin proiec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 şi designul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propriei u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it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i de 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generatoare ale unităţii de învăţare şi evaluarea continuă centrată pe ele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net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ca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 predării şi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4: Cre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a unor </a:t>
            </a:r>
            <a:br>
              <a:rPr sz="1600"/>
            </a:b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-mode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le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dusel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levilor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nt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publica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ţie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, wiki, blog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DFD0-9E60-417B-9DB7-5DF35FFF9C1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4441680"/>
            <a:ext cx="8607600" cy="16113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se poate folosi, efectiv, tehnologia informaţiei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pentru a sprijini şi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evalua învăţarea elevilor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00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Cum pot implica elevii în procesul de evaluare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31840" y="598320"/>
          <a:ext cx="8607240" cy="3886200"/>
        </p:xfrm>
        <a:graphic>
          <a:graphicData uri="http://schemas.openxmlformats.org/drawingml/2006/table">
            <a:tbl>
              <a:tblPr/>
              <a:tblGrid>
                <a:gridCol w="2535120"/>
                <a:gridCol w="6072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rea proiectelor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valuarea formativă şi sumativ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a</a:t>
                      </a:r>
                      <a:r>
                        <a:rPr b="1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Ob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ţine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feedback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în scopul îmbunătăţirii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el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entru el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xplor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alităţilor de implicare a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utoevaluarea practicilor curente de evaluare folosite de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lizarea unui prim rezumat al evaluării pentru unitatea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a unei evaluăr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produselor-model pentru elev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duselor-model pentru elevi, pe baza evaluării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sumativ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uirea propriului plan al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0c2e86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flect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rea asupra propriei învăţări pe</a:t>
                      </a:r>
                      <a:r>
                        <a:rPr b="0" lang="en-US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r>
                        <a:rPr b="0" lang="ro-RO" sz="15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-ul dv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EDC7-7B1C-426B-89E4-3E4A3FEFA0F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174600" y="285840"/>
            <a:ext cx="8461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Către ce ne îndreptă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203040" y="1509840"/>
            <a:ext cx="4456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6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area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entru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ucces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 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în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c2e86"/>
                </a:solidFill>
                <a:latin typeface="Arial"/>
                <a:ea typeface="Times New Roman"/>
              </a:rPr>
              <a:t>e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stimularea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nomi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i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7: Facilit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re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cesului de predare –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-evaluare prin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termediul t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ehnolog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ei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informaţie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 facilitat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8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Prezentarea portofoliilor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Discutarea rezultatelor învăţă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769ed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769ed"/>
                </a:solidFill>
                <a:latin typeface="Verdana"/>
                <a:ea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1043" descr="E:\Cantemir 1\GM__2346.jpg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60280" y="4092480"/>
            <a:ext cx="43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F08-6463-4318-A6D5-1F363E3D3FA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659480" y="272880"/>
            <a:ext cx="4484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32200" y="2379600"/>
            <a:ext cx="441180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6" descr="E:\Cantemir 1\GM__2186.jpg"/>
          <p:cNvPicPr/>
          <p:nvPr/>
        </p:nvPicPr>
        <p:blipFill>
          <a:blip r:embed="rId1"/>
          <a:stretch/>
        </p:blipFill>
        <p:spPr>
          <a:xfrm>
            <a:off x="0" y="0"/>
            <a:ext cx="4700520" cy="6022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4732200" y="0"/>
            <a:ext cx="441180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0" lang="ro-RO" sz="11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100" spc="-1" strike="noStrike">
                <a:solidFill>
                  <a:srgbClr val="0c2e86"/>
                </a:solidFill>
                <a:latin typeface="Verdana"/>
              </a:rPr>
              <a:t> 5: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valuarea proiectelor elevilor </a:t>
            </a:r>
            <a:br>
              <a:rPr sz="11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Lucru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l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 în perechi şi schimb de opini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rea f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eedback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-ulu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în scopul îmbunătăţirii produselor-model “ale elevilor”</a:t>
            </a:r>
            <a:r>
              <a:rPr b="0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(5.0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716360" y="2825640"/>
            <a:ext cx="4427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769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scutaţi cu un coleg propriul produs-model creat pentru elev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olicitaţi sugest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u priv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re la modul în care vă puteţi îmbunătăţi model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c2e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  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fiş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Autoevaluarea produselor-model  “ale elevilor”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 la pagina 4.19 pentru a vă stabili repere</a:t>
            </a:r>
            <a:r>
              <a:rPr b="0" lang="ro-RO" sz="1800" spc="-1" strike="noStrike">
                <a:solidFill>
                  <a:srgbClr val="0c2e86"/>
                </a:solidFill>
                <a:latin typeface="Arial"/>
              </a:rPr>
              <a:t>le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în discuţi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634-D8D0-4D91-BDFA-DEE84A89B0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1680" y="272520"/>
            <a:ext cx="8301240" cy="13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Pract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i p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edagogic</a:t>
            </a: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e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5 min)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Implicarea elevilor în procesul de evaluare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611360"/>
            <a:ext cx="82868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mpărţiţi-vă în grupur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brainstormingul pentru a alcătui o listă de probleme pe care profesorul le poate întâmpina atunci când implică elevii în procesul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crieţi ideile grupulu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online: 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ADD UR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receţi în revistă şi ideile celorlalte grupuri şi discutaţi în grupul dvs. următoare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are dintre probleme vor fi pentru dvs. cel mai greu de depăşit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c2e8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 ar trebui să faceţi pentru a găsi rezolvări la acestea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048B-7679-4A92-BBAD-5BED339043A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013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1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2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Analiz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6240" y="1785960"/>
            <a:ext cx="889776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Reflect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rea asupra evaluării practicate la clasă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ţi asupra tipurilor de evaluare practicate la clas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2: Discu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t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ului evaluării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Accesaţ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Education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descărcaţi 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 p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buto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Add notes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sau marc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rin culoare, pentru a sublinia ideile pe care aţi dori să le folosiţi în planul dvs. de evaluare sau în evaluarea propriuzis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Discu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t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trebările de la paginil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5.06–5.07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A2FF-F58E-4318-9FC0-0528E7345A1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2680" y="287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(1oră </a:t>
            </a:r>
            <a:r>
              <a:rPr b="0" lang="ro-RO" sz="1600" spc="-1" strike="noStrike">
                <a:solidFill>
                  <a:srgbClr val="0c2e86"/>
                </a:solidFill>
                <a:latin typeface="Arial"/>
              </a:rPr>
              <a:t>şi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0 min.)</a:t>
            </a:r>
            <a:br>
              <a:rPr sz="16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4240" y="1625760"/>
            <a:ext cx="8969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1: Foc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aliza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priul p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 de evaluare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c2e86"/>
                </a:solidFill>
                <a:latin typeface="Verdana"/>
              </a:rPr>
              <a:t>(5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eschide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unităţii de învăţ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şi revizuiţi-vă schiţa de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olosiţ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Tabelul evaluării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 scopul stabilirii şi descrierii instrumentelor/ tehnicilor de evaluare pe care le veţi folosi pe parcursul unităţ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Consultaţi şi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ul de evaluare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pe care l-aţi descărcat, şi pe care aţi făcut propriile marcaje şi aţi adăugat propriile notiţe, în timpul activităţii preceden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ede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Lista de verificare a planului evaluări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din directo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r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Evaluare </a:t>
            </a:r>
            <a:r>
              <a:rPr b="0" i="1" lang="en-US" sz="1800" spc="-1" strike="noStrike">
                <a:solidFill>
                  <a:srgbClr val="0c2e86"/>
                </a:solidFill>
                <a:latin typeface="Verdana"/>
              </a:rPr>
              <a:t>Portfoli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Ad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ugaţi noi tehnici/ instrumente de evaluare în secţiune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Planificarea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din p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an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ăţii dvs. de învăţar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cepeţi lucrul la </a:t>
            </a:r>
            <a:r>
              <a:rPr b="0" i="1" lang="ro-RO" sz="1800" spc="-1" strike="noStrike">
                <a:solidFill>
                  <a:srgbClr val="0c2e86"/>
                </a:solidFill>
                <a:latin typeface="Verdana"/>
              </a:rPr>
              <a:t>Rezumatul evaluării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446F-C522-45AC-971B-D2C5B3C5EF8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3880" y="330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ul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5: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Evaluarea proiectelor elevilor</a:t>
            </a:r>
            <a:br>
              <a:rPr sz="1200"/>
            </a:br>
            <a:br>
              <a:rPr sz="1200"/>
            </a:br>
            <a:r>
              <a:rPr b="1" lang="ro-RO" sz="2400" spc="-1" strike="noStrike">
                <a:solidFill>
                  <a:srgbClr val="0c2e86"/>
                </a:solidFill>
                <a:latin typeface="Verdana"/>
              </a:rPr>
              <a:t>Activitatea 2</a:t>
            </a:r>
            <a:br>
              <a:rPr sz="2400"/>
            </a:br>
            <a:r>
              <a:rPr b="0" lang="ro-RO" sz="2400" spc="-1" strike="noStrike">
                <a:solidFill>
                  <a:srgbClr val="0c2e86"/>
                </a:solidFill>
                <a:latin typeface="Verdana"/>
              </a:rPr>
              <a:t>Crearea strategiilor de evaluare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8640" y="1770120"/>
            <a:ext cx="8955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roiectarea evaluării produselor-model ale “elevilor”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0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9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roiectaţi o evaluare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sumativ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ă </a:t>
            </a:r>
            <a:r>
              <a:rPr b="0" lang="ro-RO" sz="2000" spc="-1" strike="noStrike">
                <a:solidFill>
                  <a:srgbClr val="0c2e86"/>
                </a:solidFill>
                <a:latin typeface="Arial"/>
              </a:rPr>
              <a:t>destinată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produselor-model “ale elevilor”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 în acest scop întrebările de la paginil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5.09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–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5.10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3: Crea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rea</a:t>
            </a:r>
            <a:r>
              <a:rPr b="1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c2e86"/>
                </a:solidFill>
                <a:latin typeface="Verdana"/>
              </a:rPr>
              <a:t>unei evaluări a produselor-model “ale elevilor”</a:t>
            </a:r>
            <a:r>
              <a:rPr b="1" lang="en-US" sz="2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(5.11–5.1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Treceţi în revistă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informaţia din 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aplic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ia </a:t>
            </a:r>
            <a:r>
              <a:rPr b="0" i="1" lang="ro-RO" sz="2000" spc="-1" strike="noStrike">
                <a:solidFill>
                  <a:srgbClr val="0c2e86"/>
                </a:solidFill>
                <a:latin typeface="Verdana"/>
              </a:rPr>
              <a:t>Assessing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 Projects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Folosiţi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aplic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i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a </a:t>
            </a:r>
            <a:r>
              <a:rPr b="0" i="1" lang="en-US" sz="2000" spc="-1" strike="noStrike">
                <a:solidFill>
                  <a:srgbClr val="0c2e86"/>
                </a:solidFill>
                <a:latin typeface="Verdana"/>
              </a:rPr>
              <a:t>Assessing Projects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pentru a crea o evaluare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Vizitaţi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Faceţi c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lic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 pe tasta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c2e86"/>
                </a:solidFill>
                <a:latin typeface="Verdana"/>
              </a:rPr>
              <a:t>Enter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878040" indent="-304920">
              <a:lnSpc>
                <a:spcPct val="90000"/>
              </a:lnSpc>
              <a:spcBef>
                <a:spcPts val="451"/>
              </a:spcBef>
              <a:buClr>
                <a:srgbClr val="0c2e8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Înregistraţi-vă dacă sunteţi nou venit pe</a:t>
            </a:r>
            <a:r>
              <a:rPr b="0" lang="en-US" sz="1800" spc="-1" strike="noStrike">
                <a:solidFill>
                  <a:srgbClr val="0c2e86"/>
                </a:solidFill>
                <a:latin typeface="Verdana"/>
              </a:rPr>
              <a:t> si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om</cp:lastModifiedBy>
  <cp:lastPrinted>2006-11-14T00:45:04Z</cp:lastPrinted>
  <dcterms:modified xsi:type="dcterms:W3CDTF">2007-08-18T05:09:05Z</dcterms:modified>
  <cp:revision>343</cp:revision>
  <dc:subject/>
  <dc:title>Presentation Title Goes Here</dc:title>
</cp:coreProperties>
</file>